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0DD-0DF5-4354-9445-65327623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81B-E4BB-45EB-B9B3-C4B31F71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7D9-EE73-471E-BF86-5437BE1E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374-83A8-419F-AC4E-60112EAA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B31-4E7D-44DC-A788-47CEB25A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8BF0-9EFD-4530-A04C-7A1695CE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7147-AFBB-4B59-AC20-A931FE7E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F038-53B8-4AFA-8D94-D8610BEA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6CD-C38C-42FD-9ACC-B5C2B608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BB1-82DA-4BAA-BD5A-F2A14367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C4B-BC56-4215-866F-3B940D4A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290-E56F-4A7A-B7BD-9354E270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21C2-ADC2-46FD-8E36-246BFC8D6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Nd9GcTm62HIxP0Z9AhIG8IaauJs8IKNp0to87fgzAgzraXrwJbqEdcV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Gesundh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Fritz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jogging"/>
          <p:cNvPicPr/>
          <p:nvPr/>
        </p:nvPicPr>
        <p:blipFill>
          <a:blip r:embed="rId1"/>
          <a:stretch/>
        </p:blipFill>
        <p:spPr>
          <a:xfrm>
            <a:off x="609480" y="120024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r meine Gesundheit in der Monat jogge ich jeden Ta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Ringe jeden tag nach der Schule für meine Gesundhe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ANd9GcQTfqLMYV_HAAJKPvevTz1dLJiz8dL5tt93NXbficc2QcP5V8oDNw"/>
          <p:cNvPicPr/>
          <p:nvPr/>
        </p:nvPicPr>
        <p:blipFill>
          <a:blip r:embed="rId1"/>
          <a:stretch/>
        </p:blipFill>
        <p:spPr>
          <a:xfrm>
            <a:off x="380880" y="152388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imagesCAD0JT0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esse viel Obst und Gemüse denn es ist gut für meine Gesundhe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Rz8KSbeE750FkPNcgRC1a9jPXOFacnUoiJ7BRkqTRW9fk73REzQQ"/>
          <p:cNvPicPr/>
          <p:nvPr/>
        </p:nvPicPr>
        <p:blipFill>
          <a:blip r:embed="rId2"/>
          <a:stretch/>
        </p:blipFill>
        <p:spPr>
          <a:xfrm>
            <a:off x="1066680" y="1981080"/>
            <a:ext cx="647712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ANd9GcRW3WayEdXYjhopby87eqSS9JkH81wqPk0XinXBnQoMuFDh_HgbtA"/>
          <p:cNvPicPr/>
          <p:nvPr/>
        </p:nvPicPr>
        <p:blipFill>
          <a:blip r:embed="rId1"/>
          <a:stretch/>
        </p:blipFill>
        <p:spPr>
          <a:xfrm>
            <a:off x="0" y="1646280"/>
            <a:ext cx="9144000" cy="5211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finde es nicht gut dass du rauchst dreimal in der Tag denn rauchen ist nicht Ges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imagesCAT4PT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ist prima dass du trinkst keinen Alkohol weil es ist gut für deiner Gesundhe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Nd9GcTEoA6gEUB0LSx2TzRV95EGCcx_vSBMXOEk9fTmijkVRLKpUt1UmfN0rCdp"/>
          <p:cNvPicPr/>
          <p:nvPr/>
        </p:nvPicPr>
        <p:blipFill>
          <a:blip r:embed="rId2"/>
          <a:stretch/>
        </p:blipFill>
        <p:spPr>
          <a:xfrm>
            <a:off x="380880" y="1752480"/>
            <a:ext cx="74678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1" descr="gemuesekorb-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snow_leopard"/>
          <p:cNvPicPr/>
          <p:nvPr/>
        </p:nvPicPr>
        <p:blipFill>
          <a:blip r:embed="rId2"/>
          <a:srcRect l="444" t="39397" r="0" b="0"/>
          <a:stretch/>
        </p:blipFill>
        <p:spPr>
          <a:xfrm>
            <a:off x="5791320" y="12193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darf alle Obst und Gemüse essen denn es ist gut für meine Gesundhe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snow_monster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darf nicht in der Schule Rad f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ä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ren weil es ist Winter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3257640" y="2557440"/>
            <a:ext cx="262872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snow-leopard-1"/>
          <p:cNvPicPr/>
          <p:nvPr/>
        </p:nvPicPr>
        <p:blipFill>
          <a:blip r:embed="rId2"/>
          <a:stretch/>
        </p:blipFill>
        <p:spPr>
          <a:xfrm>
            <a:off x="4952880" y="3429000"/>
            <a:ext cx="23623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19:45Z</dcterms:created>
  <dc:creator>CUSD220</dc:creator>
  <dc:description/>
  <dc:language>en-US</dc:language>
  <cp:lastModifiedBy>Colin Thomson</cp:lastModifiedBy>
  <dcterms:modified xsi:type="dcterms:W3CDTF">2012-02-28T02:58:48Z</dcterms:modified>
  <cp:revision>7</cp:revision>
  <dc:subject/>
  <dc:title>Meine Gesundheit</dc:title>
</cp:coreProperties>
</file>